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ABF-728F-4B73-B8F3-F1EB7267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31F-0729-4409-9DB3-D435FEF7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DB3-B300-4581-B52B-BC5249F8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31E-0434-48B9-8724-B19746D6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87E-323C-4B20-87A8-7B72796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60-3ABF-4471-9229-BAE7950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A80-4AAE-4249-8BB6-1C7E1F81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0B8-45BD-46AA-9187-836FAB9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E9C-8DA9-40CC-A3F1-137C852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66A-6A92-4FAA-84F7-8EA63D5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004-7016-4F2C-B452-BEA869A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2E2-EE52-42F5-B75B-44D9C52A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394-5875-42BA-B208-6C07C5A81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48;&#1079;&#1086;&#1073;&#1088;&#1072;&#1078;&#1077;&#1085;&#1080;&#1077;:Skinhead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ru.wikipedia.org/wiki/&#1048;&#1079;&#1086;&#1073;&#1088;&#1072;&#1078;&#1077;&#1085;&#1080;&#1077;:Neo-Nazi_Skinhead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Tlogo_main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airdWilcox.jpg" TargetMode="External"/><Relationship Id="rId2" Type="http://schemas.openxmlformats.org/officeDocument/2006/relationships/hyperlink" Target="http://ru.wikipedia.org/wiki/&#1048;&#1079;&#1086;&#1073;&#1088;&#1072;&#1078;&#1077;&#1085;&#1080;&#1077;:DN-SD-098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upload.wikimedia.org/wikipedia/commons/9/9e/ETAren_anagrama_Altsasun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20" y="2629080"/>
            <a:ext cx="8604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Экстремизм и терроризм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G:\Экстремизм\229578.jpg"/>
          <p:cNvPicPr/>
          <p:nvPr/>
        </p:nvPicPr>
        <p:blipFill>
          <a:blip r:embed="rId1"/>
          <a:stretch/>
        </p:blipFill>
        <p:spPr>
          <a:xfrm>
            <a:off x="179280" y="620640"/>
            <a:ext cx="3621240" cy="2008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G:\Экстремизм\_preview.jpg"/>
          <p:cNvPicPr/>
          <p:nvPr/>
        </p:nvPicPr>
        <p:blipFill>
          <a:blip r:embed="rId2"/>
          <a:stretch/>
        </p:blipFill>
        <p:spPr>
          <a:xfrm>
            <a:off x="5219640" y="4508640"/>
            <a:ext cx="3643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левым радикалам чаще всего относят анархистов и близкие к ним организации. В 19 – начале 20 вв. они считались наиболее опасными террористами, но к настоящему времени, как правило, отошли от терр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C:\Documents and Settings\Администратор\Мои документы\Сергей\Материалы для презентаций\АНАРХИВ.files\anarchive.virtualave.files\a-symbols.files\sabcat.jpg"/>
          <p:cNvPicPr/>
          <p:nvPr/>
        </p:nvPicPr>
        <p:blipFill>
          <a:blip r:embed="rId1"/>
          <a:stretch/>
        </p:blipFill>
        <p:spPr>
          <a:xfrm>
            <a:off x="468360" y="3716280"/>
            <a:ext cx="2011320" cy="23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Администратор\Мои документы\Сергей\Материалы для презентаций\АНАРХИВ3.files\anarchive.virtualave.files\circle-a.files\blackflag06.gif"/>
          <p:cNvPicPr/>
          <p:nvPr/>
        </p:nvPicPr>
        <p:blipFill>
          <a:blip r:embed="rId2"/>
          <a:stretch/>
        </p:blipFill>
        <p:spPr>
          <a:xfrm>
            <a:off x="3200400" y="3716280"/>
            <a:ext cx="2367000" cy="2419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2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251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85840" y="0"/>
            <a:ext cx="5257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 второму и третьему типам относя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ьно-националистические правые организации (Русское национальное единство, Национал-социалистическое общество, Движение против нелегальной иммиграции (ДПНИ), «Русский образ», «Сопротивление» и т.п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143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Documents and Settings\Администратор\Мои документы\Сергей\Грант по экстремизму\Русский этнонационализм\НАЦИОНАЛИСТЫ\Удвоение Русского марша.files\215780.jpg"/>
          <p:cNvPicPr/>
          <p:nvPr/>
        </p:nvPicPr>
        <p:blipFill>
          <a:blip r:embed="rId1"/>
          <a:stretch/>
        </p:blipFill>
        <p:spPr>
          <a:xfrm>
            <a:off x="0" y="152280"/>
            <a:ext cx="3962520" cy="647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Скинхед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4572000"/>
            <a:ext cx="18669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upload.wikimedia.org/wikipedia/commons/thumb/8/8d/Neo-Nazi_Skinhead.jpg/180px-Neo-Nazi_Skinhea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4572000"/>
            <a:ext cx="17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7848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вертая разновидность радикализма и экстремизма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исламские радикалы и экстремисты, противопоставляющие себя и большинству мусульман, и государству. 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уют в т.ч. и в нашей республ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8577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-93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Documents and Settings\Администратор\Мои документы\Сергей\Для отчетов - Карнеги\Старые\исламисты\Jamaat BULGAR.files\bjgv.jpg"/>
          <p:cNvPicPr/>
          <p:nvPr/>
        </p:nvPicPr>
        <p:blipFill>
          <a:blip r:embed="rId1"/>
          <a:stretch/>
        </p:blipFill>
        <p:spPr>
          <a:xfrm>
            <a:off x="108000" y="4365720"/>
            <a:ext cx="84675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62120" y="380880"/>
            <a:ext cx="7924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17 организаций, официально признанных в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рористическими – все исламист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62120" y="1905120"/>
            <a:ext cx="7924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42 организаций, официально призна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рористическими в США, исламистских 2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Логотип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505320"/>
            <a:ext cx="2682720" cy="309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upload.wikimedia.org/wikipedia/ru/d/da/HamasLogo.jpg"/>
          <p:cNvPicPr/>
          <p:nvPr/>
        </p:nvPicPr>
        <p:blipFill>
          <a:blip r:embed="rId3"/>
          <a:stretch/>
        </p:blipFill>
        <p:spPr>
          <a:xfrm>
            <a:off x="6019920" y="3505320"/>
            <a:ext cx="27288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upload.wikimedia.org/wikipedia/commons/thumb/d/dc/Hamas_flag2.png/200px-Hamas_flag2.png"/>
          <p:cNvPicPr/>
          <p:nvPr/>
        </p:nvPicPr>
        <p:blipFill>
          <a:blip r:embed="rId4"/>
          <a:stretch/>
        </p:blipFill>
        <p:spPr>
          <a:xfrm>
            <a:off x="304920" y="5105520"/>
            <a:ext cx="2514600" cy="150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Логотип"/>
          <p:cNvPicPr/>
          <p:nvPr/>
        </p:nvPicPr>
        <p:blipFill>
          <a:blip r:embed="rId5"/>
          <a:stretch/>
        </p:blipFill>
        <p:spPr>
          <a:xfrm>
            <a:off x="380880" y="3276720"/>
            <a:ext cx="2438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684360" y="69228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рроризм – угроза обществ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изм и терроризм в любых формах своих проявлений превратились в одну из самых опасных проблем, с которыми человечество вошло в XXI столетие. Терроризм представляет реальную угрозу национальной безопасности страны: похищение людей, взятие заложников, случаи угона самолетов, взрывы бомб, акты насилия в этно-конфессиональных конфликтах, прямые угрозы их реализация и т.д. Поэтому проблема противодействия терроризму и экстремизму в Российской Федерации – это одна из наиболее важных задач обеспечения безопасности на государственном уров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толковый словарь дает следующее определение экстремизму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от лат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us 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й) это приверженность отдельных лиц, групп, организаций к  крайним взглядам, позициям  и мерам в обще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экстремизм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абилизация, разрушение, сложившихся в обществе отношений, цен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Характерные че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лие или угроза насил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ерность восприятия общественных пробле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атиз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умное выполнение любых приказ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 на разум, а на инстинкты, предрассуд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к толеран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иды экстрем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направленн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(установление одной формы собственности; устранение конкуренции 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й (в отношении властных структур, государственного строя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истический (отвергает интересы и права других наций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(нетерпимость к другим конфессиям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(против природоохранной политики; за полную ликвидацию промышленности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ый (отрицание достижений других культур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экстремиз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о масштабности действий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утригосударственный (репрессии против собственного народ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государственный (утверждение своих норм и принципов в мировом масштабе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о отношению к властным структура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й (осуществляемые властными структурами репрессии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позиционный государству (антирежимные группировки; теракты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рр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рориз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, осуществляемая в целях нарушения общественной безопасности, устрашения населения, либо оказания воздействия на принятие решений органами вла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, это средство, используемое экстремистами, а не обособленное явле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рориз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на из фор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зм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38080" y="457200"/>
            <a:ext cx="2590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РР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038480" y="533520"/>
            <a:ext cx="4724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, ужас, устра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68360" y="1523880"/>
            <a:ext cx="72817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илы 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 ее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итических цел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038480" y="3581280"/>
            <a:ext cx="4572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ю терр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оли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62120" y="3886200"/>
            <a:ext cx="2819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РРОРИЗ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9640" y="800280"/>
            <a:ext cx="77043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могут исповед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тремистские (крайние) взгл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ринадлежать к радикальным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запрещенным организац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16000" y="3573360"/>
            <a:ext cx="62485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Но если они не применяю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насилие – они не террорис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18148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деля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- 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х тип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изма, радикал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рор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ционалистичес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лигиоз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>
            <a:hlinkClick r:id="rId1"/>
          </p:cNvPr>
          <p:cNvSpPr/>
          <p:nvPr/>
        </p:nvSpPr>
        <p:spPr>
          <a:xfrm>
            <a:off x="31431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Портре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52280"/>
            <a:ext cx="264168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ild:ETAren anagrama Altsasu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9" descr="http://www.blackpanther.org/../logo03.jpg"/>
          <p:cNvPicPr/>
          <p:nvPr/>
        </p:nvPicPr>
        <p:blipFill>
          <a:blip r:embed="rId6"/>
          <a:stretch/>
        </p:blipFill>
        <p:spPr>
          <a:xfrm>
            <a:off x="762120" y="4707000"/>
            <a:ext cx="37335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06:25:13Z</dcterms:created>
  <dc:creator>1</dc:creator>
  <dc:description/>
  <dc:language>en-US</dc:language>
  <cp:lastModifiedBy>Светлана</cp:lastModifiedBy>
  <dcterms:modified xsi:type="dcterms:W3CDTF">2019-02-14T19:23:53Z</dcterms:modified>
  <cp:revision>14</cp:revision>
  <dc:subject/>
  <dc:title>Экстремизм и терроризм</dc:title>
</cp:coreProperties>
</file>